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571-B104-411D-9D4B-6B9324EA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CDF-6787-4C9A-9E6E-8B39ECC0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BD9EA-B24F-4A92-8539-6176EEF7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55D08-94D2-44AA-A7F9-A1338FCA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57864-8C5D-4D7F-BDE1-536AA2DD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59223-9DD3-478D-9177-E3CE035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04F1A-8959-4128-B93E-E3BCCA86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B03CF-29CB-43E8-BD44-9A3E03F7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F849E-7DE3-45D7-B0D0-1210968A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E8AB3-6460-4550-A22E-A30FEFF9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14D9A-3640-4EF4-BD63-2A950215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50AD2-F3A8-43F9-BDD0-6A03A7BD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53D-1C64-478E-B8E4-5B1FC6D4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823BA-A262-4FE1-A745-2DE4D9C5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356A6-FA7B-4F55-8CAD-F9026B9B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67485-F098-4FD0-A7E5-578FEF8F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258DE-87D4-4446-B3B0-DEC924D3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6866F-14D5-435A-98E0-1C39AD4D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A2DC1-1C73-4918-93B4-EE2963CB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31D99-6703-43ED-BBBE-C86C6227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81186-5D2E-4DD5-864F-769B8D36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C9823-C422-4344-B349-5BCBA9EE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4BE66-E127-49A4-994D-613F954D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B2E-21F9-4DDA-B869-C9F8B0A2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4F29A-07A9-4C76-BB10-6B600B06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C791E-B689-4813-B284-7C26DE44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D4193-7E29-4F38-9515-DF39F930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65582-8744-400D-9167-E01715E6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94489-9772-433F-ACAF-2A4EAD47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AA469-6676-4502-80DC-09AFBEDA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F0DE9-8758-43BB-80C7-E66A3F20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D38AE-F3F6-463C-BD0C-968C1CFB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81CEC-D9D6-4E1D-A040-B6BA993A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930A4-68F7-4480-B6E9-155094DC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210D-4AEE-4B22-9A82-D5B9E7F5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652A5-2BA0-4D79-9EC9-4A614B4F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11B8E-976E-4C7F-8645-2DC1D8B0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04FAA-E901-49D4-8AE4-FB2C546D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D70E5-717F-47D4-909A-C934A2B8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2FFB2-7AF9-4D8A-BE74-028E859C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8B8BA-D1C3-4BA1-8CC2-5F6BC838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05999-B74D-435C-AACC-A900AB24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F3DEF-C2F6-4079-BDD1-829642A2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19941-8815-4F64-A79F-F1FE3B0C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E1BAF-5E15-484B-B8B5-0D96BD46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C809-7F00-4233-9485-0FAB6400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9E10F-AC01-44FF-AE7C-057EF714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976ED-97DF-4DCE-8A0F-24ED6B0C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0CAC1-498B-4E12-A5C3-0E3A5BCB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94854-C5E6-4E42-A05E-163D4B1A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EF353-9E05-48F6-B6A2-9B546744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67D09-B1F0-47DE-9044-10E11D41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24B5D-A123-44C5-8539-A3AFD042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D72CE-5105-4276-BFEA-AE315005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91E89-084D-47D8-8387-97F12A29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E1FCB-2EEC-47CF-91B6-020C23EF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05F0-442E-404C-8D73-68ED60E4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13074-C76E-4769-9E2B-1E50FB9D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2C17C-1A59-4973-8926-68B45C4D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79884-2E8E-4784-9790-A875D92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36F3B-899A-484F-AAA4-35111A92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36186-E31E-4665-8656-865FC86D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E266A-0C8B-424D-8504-2D066C84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53C10-F495-46C6-9B89-F3627103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CEE0D-7C5A-40AE-A05F-FC3047D5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0AFE3-C53D-49DE-9C9F-D4CA0C90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9094E-761A-4BED-8CB1-9379A419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6EA9-F844-46A3-A1A4-6C9F0BE2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61CD5-5C3F-442C-9DCB-CACE23B0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7138D-67BD-4941-BF0A-B4D10ED8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05453-A964-45AE-B972-A4EBDED0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4586C-C193-4D5C-AF19-1F95A0BC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74A2E-B28C-41EF-B5D9-99DD971F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94E95-CC6B-409D-895A-E3237159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8CB77-B366-4256-A91E-E369AAB7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A5CBF-6933-415A-87AA-857B838A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E2C2B-67FF-451C-A991-DEE50A4B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CE4665-1355-4345-91F8-D18FD2C3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E880-362D-4A3E-A301-B74EF4DD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B15B64-7BB3-4758-B287-133056AD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F04C9-4D00-46D7-B1DC-FCFE3164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270B0-2F4F-4F3D-AE3E-BEB88C76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770CF-4DC5-4E4D-9268-BDEA8969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A8EA8-2A5F-4527-A08E-B69E43CE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D9717-931B-4914-B972-9341E4B2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E338E-C439-420C-A108-621641FA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4419E-B5C4-4834-87E6-DC4D60D0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0A48A-FE4E-4079-BA79-981567A9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11BB2-7A72-46A2-95D7-F10D6C55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85CA-0DC4-45A9-8232-B9FCBF88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AF0478-B529-4BBB-A016-E10679AF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B23F3-A4DB-4BCD-B903-6D548F53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D08B9-5546-40F3-B1B2-9A477DFA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DA6F6-88F8-42A3-8CB8-CA21CA98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AA6233-55D8-4157-A955-7F325072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7C82AA-39D7-47D2-A96E-B5F8A063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120B1-AD9D-418A-8B87-5D30E238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453CB-985F-4550-B7D5-595E1898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E17FA-89B5-4A1C-93D4-DBD7CC39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EB79F-4D46-4181-A02F-980A145C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D960-279C-41C3-BA15-DF189260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DA5620-BB76-4275-BE3C-7B36482A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22546-A990-4771-A124-44B49B22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6F388-82E8-4585-B971-D4DFB127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FF727-D140-46C0-8879-EEA6B249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0BE50-DB5A-4BD5-A3E8-91A59B32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113A7-2675-4F5D-8249-1B25FC48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F4733-D5FF-49CF-8F4F-5FC40A83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A7B76-5C7E-4C3F-A324-9FB7175C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B16D18-4E40-46E1-8499-EE6BDC5D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8732E-A4B7-4385-88F5-3E6D61D2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030-941C-4173-9673-CD0BC195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C12A-D271-47A9-BAAB-811A7199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8DF7F-8E7A-43CD-B672-AA16DB0F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F60F6-6FFB-4517-82EE-25772CD5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83C777-8000-4ED3-9BCA-6F72D112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51DA5-BABA-4371-BD1B-8664EADB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4EA64-3E7F-4FC2-BE36-50A9BEF4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2AEA2-F80E-4137-A02F-1A4991A2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CD7428-2FEB-4D38-9CD2-D0EF77D2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F9BEC0-198D-4606-97EF-4C43411C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CEDB1-EA86-4E1D-BCF7-E53B45FF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E77758-CE71-4D45-9AD8-B2C88994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C241-ACBF-407E-8A59-3AA3ED83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84FDF-FF7C-46D2-BCFC-36C3BDA5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23065F-7A88-4D63-99F4-6F200A1E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B9CE3-2D22-4E64-B0F0-31510717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9FA653-BD15-4C05-8206-8EB0CD6D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36B924-380C-45D5-9FF5-566B579D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CD1DC-AFD2-41E7-85AA-58742EFD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6B2C40-B686-4488-8355-B1BEF744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1C0E90-9256-496A-8B96-8A47DABB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ABC3E7-3860-4D3A-9803-1A408097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577DB-DE4F-430F-B3CD-75071EBF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DD8C-5FDF-4C13-A671-7D4AFC4D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318332-1D78-4C98-8748-40B84309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FB4ABC-6F9B-422D-B0CA-9B549347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0CB3E1-AACC-4DA4-8F3A-9EFB9584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1E510A-E6DB-4C42-B1F2-D27411B3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CD8F22-4BAE-473B-8D16-0BA200C9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8804A-5D63-4D9B-B73E-8CB4845B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273EB2-C61F-49CD-8A3F-5A186244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55B509-C284-4712-9783-171B58C0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296DF-A8FF-44E1-8EE4-95B5F13D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1003D7-1A58-46D7-A779-CD568E50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A2F0-9834-4DE6-83C8-04FB6AE6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222C65-C20A-49D2-9299-977A0118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411E6D-C1EF-403A-B1A2-96BD817E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2ACC57-2DE8-4309-AE50-99734088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D8C97D-26FA-44D3-A8EE-B786831F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437AEC-4BB0-495A-9246-8D878307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1054A-0652-489B-BCDD-A2DDD344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822785-031F-418D-A37F-2EDA8DE0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D31C7-4E14-43F7-BDDE-1CADA603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55EE3A-14A7-455D-8E85-373490C1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BEEA83-1A01-4121-84B3-604B50DC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C6DE-6998-407A-AC96-E9F60054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483BBD-2FC0-41EA-889C-6D026FF2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1FD4C4-9B35-4C61-B148-BA760E0A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038464-3422-482B-942F-B3F4EEC6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EE227-DFBE-44F8-8F02-8531089C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673469-36B9-481F-B73A-925E0DFB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7D41F3-1391-43CC-BDFD-1CDAF212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517A22-AA97-44FB-BFCF-DAF65E79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BA09AE-F264-4A7D-ABB3-69D3BB0F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D1FB65-763F-41D7-B15E-79C49630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415D9A-95A1-4712-957D-5D3EE03D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FFF4-BB5A-44F7-AA0A-DE74C1AA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559986-146A-469B-BE64-6C37929A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BFD38D-9418-4457-A053-E8C52796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279225-963C-4860-8365-EB036070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44E7-5A88-4E4C-8283-D6DAC383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87DA-E693-4B82-BAE1-5EC5EBAE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46844-AA7F-4C31-8FAF-34167602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BCD46-3CC8-4125-9FCE-EF4E4128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C78-0E48-4281-8192-DDABC245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2BD0-6344-440C-84EC-9BBE53A6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A8A3-FBBF-4FBD-9E70-521FA572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A2F6-58A7-43DA-B0CC-1AB00278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03B1-0132-4A4A-93CD-4DE3C7C9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A007-718A-462E-B428-EB29EC0E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FF363-E304-496B-A6CA-0330F4C5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95DD0-3434-4BD6-B624-FB696A55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D1D0F-3705-4BA8-BC30-91FDFD5A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275DE-1D7A-4996-9036-1FC090E8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1D96-6C23-4A69-BEDD-EC3B8F6E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72A-4445-48D2-ABC3-64A41784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BF6FF-7CAA-4F4B-99E1-671D2BEE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50CA9-007D-4ED7-8E75-B0CC4BDF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F5AE6-BB9A-4AE1-B589-BCD0EB43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5CCA3-E7D3-4920-8B83-E2819E1A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9A6E-F920-43DB-B553-02917013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5EFA6-79F5-4B17-9D8C-E3C66F19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FC1EC-6E2E-4363-BA28-581FF335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138E-5F1D-4719-B455-77DFC0CC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10CF3-1F01-425E-B7C7-BFA74689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6A1B9-522F-42C5-AB0C-A83D2545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09A-56A2-45DB-8DC3-6A0BE8DE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7A603-4613-4770-98FA-255F973D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62DFE-709D-4DD2-8EF4-B7EE3825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FE792-0EEA-4DD5-B812-2B26F2BC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76905-E67A-4A59-858D-7396034B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60D66-29BC-42F0-8104-3E0B605A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8E806-E4BE-4455-8BB3-41D82D04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09BD2-7FB8-493B-82D1-BE3F5F0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03B1D-D435-4577-8EE6-315828B8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62606-59B4-473D-920A-95FAE44F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F6837-503A-479B-8C16-0562A6D0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344-192A-4BE1-B83D-6CDDB9C5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A6030-7C21-4E68-90D4-98CB71D9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A1A02-7B76-462C-A5E8-1F8A3FB1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80278-2153-4EB4-8F37-6FD5BC86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0C122-50F3-4FE0-B3DD-29BFDEE8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39AA6-44D6-4D5D-B239-BBD1B857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E3616-5CEB-41E1-9F52-8288A976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56F83-4657-4E32-AA11-B704BC06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04949-9D90-4CEC-A2BE-8A0F9DEB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4A448-A102-4B64-8DE0-FBDE9C44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199EB-44C6-4CF4-B551-4878E384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596-7A48-4C15-A363-9E4D91BD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47705-61F3-47EF-9BF9-64015A86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50FDE-F11A-41CD-A505-F5B8D6C9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E0A3B-58AC-44CB-A80E-3F034D2E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B4B7C-F80E-4EF3-A343-D86578D9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FBECF-FE69-4683-A900-DA032BEE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B6E04-9068-4F16-A7E4-23827126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7420D-7407-4F71-A96F-DAF9387E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E11A9-6A39-4B22-9156-68A740D1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FEE30-26CA-4141-9306-62382F45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FD2B5-06E8-4705-BF1E-B05306B7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F8E-0DD2-415B-A3D5-CED42E2E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A6FCE-F1FB-438E-A18A-26CC7E6E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0EF11-C5A1-41EF-9BC9-CAF554E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B09ED-83D2-4EA4-B3CD-302AD5E4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7EEE5-FD23-4DFC-81E7-EEBE7F78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3A8CF-5F72-4529-A7FE-8BCFA103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C8D0A-4291-44E7-92C3-15F9EC52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3B665-1B94-45ED-84DE-09C1CFF1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6CA63-9A21-443E-A74D-D93F0ADA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4CB38-A0A1-4481-94F5-DD2C82DA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664E7-2AAB-4919-9334-8C49D692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5B6-85A1-46E0-91F6-95E030B6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31B88-4826-468E-8ECF-278CCDB4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6D721-24FC-4115-8CE2-D0338E80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A5F76-CB0B-47A6-A1F8-45911A4B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E46E1-E4D8-4038-BE55-DE38070C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EF6D6-7FB4-44D6-AB9B-B477FFF9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06340-10D6-4E5A-9EB0-E7988DB1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BD88B-FB60-42C0-B7C2-CE19478B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D5C53-D509-4CEA-97B3-AC49A9CA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05247-245A-4D78-973A-D3554484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4DBED-EA0C-4A3E-89C4-F7E4C196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6605-EA15-4BAB-9BDC-7DCCAA02B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A366-703B-4D94-A16C-B595B4FD9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F4D3-D641-4B9A-A38E-33F45ECECC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C02E-6038-469F-A06C-F9696D364A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ED29-3680-4A6E-AEB2-07D2D86F82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470C-11C2-47BD-BAF9-9B58F67B6D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ADF3-0960-40D6-8048-6D9D6E8F1C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9311-517D-4657-99D4-F22D803EB8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2C2D-254C-4C3D-946E-475C699727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EF17-00CC-42FA-A4FB-29244F264B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8191-D6A3-4C83-BE1B-8F01278E49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7287-C560-4A7A-B624-32FEEAB24D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988F-8E37-47B3-A3A1-1390F67540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9BD0-1C8A-4CB4-B039-26C42C6A52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8C1F-AF08-41FB-A952-8D0AD093D2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E1DE-13ED-48B5-9299-C290E8B7C9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6A76-6891-4D88-94E1-D3BC9052F7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8E88-B6A2-463A-9385-6FBC4EB7DB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7EAB-FD5A-4A1D-AFE9-AD8544AE2B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B0CE-1F67-44E9-9699-AE8785FBC9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56B7-519F-4EA8-A583-CF06FE7495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C24F-A128-447A-BC47-519DC0C015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4A1D-2DA9-4D96-BD9F-817BC2278E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252F-0C44-4EAF-B860-61614EB8DA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8DD8-DAFF-4C3D-A00A-FB94F7BF1D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04A7-059B-4D56-878B-96D80308A7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E04E-EE7B-45F7-99B2-BBB30E7AB4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7DDA-3F14-4C02-AEC9-1E56903B0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BB34-96CB-408C-9FEF-DDCC12E46D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5788-5884-44B3-BB22-29B2DCD408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0887-227A-43A0-9B70-61F90B5F44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23C1-49E5-4FF3-8526-B46EB1C705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599F-548D-43AE-8E87-492E36FD2A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9C8B-B12A-498C-8F7B-59CC9CA814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6905-B2AD-46C0-B043-129D5D1A06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9C45-32A7-40C3-BDFD-32A4F49A7E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5FEB-44B2-49EF-AEBC-F98AC54D6C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087C-B003-4E64-8953-B5F7D333C7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44D7-8ABD-4B90-B7B7-7561468FD6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BEC1-D631-4C92-914A-D9D73AD8F9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60360" y="3170160"/>
            <a:ext cx="802800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391080" cy="44481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5364000" y="2533680"/>
            <a:ext cx="151164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5364000" y="3449520"/>
            <a:ext cx="151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5580000" y="4395960"/>
            <a:ext cx="151308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5364000" y="5335560"/>
            <a:ext cx="151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067960" cy="50385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1692360" y="2060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3"/>
          <a:stretch/>
        </p:blipFill>
        <p:spPr>
          <a:xfrm>
            <a:off x="1692360" y="414324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826920" y="949320"/>
            <a:ext cx="7391520" cy="56484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432000" cy="438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3"/>
          <a:stretch/>
        </p:blipFill>
        <p:spPr>
          <a:xfrm>
            <a:off x="1403280" y="2565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4"/>
          <a:stretch/>
        </p:blipFill>
        <p:spPr>
          <a:xfrm>
            <a:off x="1403280" y="465300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3" descr=""/>
          <p:cNvPicPr/>
          <p:nvPr/>
        </p:nvPicPr>
        <p:blipFill>
          <a:blip r:embed="rId1"/>
          <a:stretch/>
        </p:blipFill>
        <p:spPr>
          <a:xfrm>
            <a:off x="519120" y="930240"/>
            <a:ext cx="8105760" cy="566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"/>
          <a:stretch/>
        </p:blipFill>
        <p:spPr>
          <a:xfrm>
            <a:off x="4140360" y="321804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3"/>
          <a:stretch/>
        </p:blipFill>
        <p:spPr>
          <a:xfrm>
            <a:off x="4140360" y="463248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4"/>
          <a:stretch/>
        </p:blipFill>
        <p:spPr>
          <a:xfrm>
            <a:off x="4438800" y="6056280"/>
            <a:ext cx="1152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1601640" y="907920"/>
            <a:ext cx="6210360" cy="12002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2" descr=""/>
          <p:cNvPicPr/>
          <p:nvPr/>
        </p:nvPicPr>
        <p:blipFill>
          <a:blip r:embed="rId2"/>
          <a:stretch/>
        </p:blipFill>
        <p:spPr>
          <a:xfrm>
            <a:off x="900000" y="2367000"/>
            <a:ext cx="6782040" cy="41338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3"/>
          <a:stretch/>
        </p:blipFill>
        <p:spPr>
          <a:xfrm>
            <a:off x="4067280" y="1525680"/>
            <a:ext cx="1152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34280" cy="5496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12000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1476360" y="3103560"/>
            <a:ext cx="612000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4"/>
          <a:stretch/>
        </p:blipFill>
        <p:spPr>
          <a:xfrm>
            <a:off x="1476360" y="4522680"/>
            <a:ext cx="612000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5"/>
          <a:stretch/>
        </p:blipFill>
        <p:spPr>
          <a:xfrm>
            <a:off x="1403280" y="5923080"/>
            <a:ext cx="6121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Picture 2" descr=""/>
          <p:cNvPicPr/>
          <p:nvPr/>
        </p:nvPicPr>
        <p:blipFill>
          <a:blip r:embed="rId1"/>
          <a:stretch/>
        </p:blipFill>
        <p:spPr>
          <a:xfrm>
            <a:off x="647640" y="933480"/>
            <a:ext cx="7848720" cy="55911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2"/>
          <a:stretch/>
        </p:blipFill>
        <p:spPr>
          <a:xfrm>
            <a:off x="5364000" y="1773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3"/>
          <a:stretch/>
        </p:blipFill>
        <p:spPr>
          <a:xfrm>
            <a:off x="3564000" y="31622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4"/>
          <a:stretch/>
        </p:blipFill>
        <p:spPr>
          <a:xfrm>
            <a:off x="3564000" y="458136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5"/>
          <a:stretch/>
        </p:blipFill>
        <p:spPr>
          <a:xfrm>
            <a:off x="3564000" y="599436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Picture 1" descr=""/>
          <p:cNvPicPr/>
          <p:nvPr/>
        </p:nvPicPr>
        <p:blipFill>
          <a:blip r:embed="rId1"/>
          <a:stretch/>
        </p:blipFill>
        <p:spPr>
          <a:xfrm>
            <a:off x="1109520" y="727200"/>
            <a:ext cx="6924960" cy="60865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2"/>
          <a:stretch/>
        </p:blipFill>
        <p:spPr>
          <a:xfrm>
            <a:off x="5940360" y="73332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1:21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